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CC36-1140-4457-A58A-D04A1F4F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6201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320" y="3818160"/>
            <a:ext cx="76201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A648-7923-4FBD-A3B8-A0B640F1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3718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1240" y="1294920"/>
            <a:ext cx="3718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320" y="3818160"/>
            <a:ext cx="3718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71240" y="3818160"/>
            <a:ext cx="3718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27B6-1A7C-43F8-AD0F-300C930CC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245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2840" y="1294920"/>
            <a:ext cx="245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19360" y="1294920"/>
            <a:ext cx="245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320" y="3818160"/>
            <a:ext cx="245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2840" y="3818160"/>
            <a:ext cx="245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19360" y="3818160"/>
            <a:ext cx="245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B118-3E25-4EB2-90F0-42659CFD2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ACFE-2338-4474-A1CA-4FD68957C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320" y="1294920"/>
            <a:ext cx="76201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6975-EF9B-4299-AF34-2B0CBD7F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6201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1884-EB59-4C61-9CA4-A04A3FE8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37184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1240" y="1294920"/>
            <a:ext cx="37184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B494-08C8-46C5-97A0-1982FDA5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1423-0B3B-433C-9376-79522A21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274680"/>
            <a:ext cx="76201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EB2C-2B4B-4218-8223-9C3E10C8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3718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1240" y="1294920"/>
            <a:ext cx="37184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320" y="3818160"/>
            <a:ext cx="3718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D9BD-5CCB-48A6-AA75-77BD5DAF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320" y="1294920"/>
            <a:ext cx="76201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5586-9036-419C-9498-3EAFC27F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37184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1240" y="1294920"/>
            <a:ext cx="3718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1240" y="3818160"/>
            <a:ext cx="3718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C222-B7B5-4204-99DD-15DE64DE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3718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1240" y="1294920"/>
            <a:ext cx="3718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818160"/>
            <a:ext cx="76201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75FD-CA4C-49B9-8222-81C33C79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6201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320" y="3818160"/>
            <a:ext cx="76201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065D-2748-41B4-8641-515B9558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3718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1240" y="1294920"/>
            <a:ext cx="3718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3818160"/>
            <a:ext cx="3718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1240" y="3818160"/>
            <a:ext cx="3718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009D-E140-4FB9-BC69-C40F64064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245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42840" y="1294920"/>
            <a:ext cx="245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19360" y="1294920"/>
            <a:ext cx="245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320" y="3818160"/>
            <a:ext cx="245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42840" y="3818160"/>
            <a:ext cx="245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19360" y="3818160"/>
            <a:ext cx="245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CA1A-B71C-401B-B3BF-7F0973346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6201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0C8F-2FB5-45FE-AB36-C512AB26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37184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71240" y="1294920"/>
            <a:ext cx="37184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1415-75D7-4845-B516-C2610EFA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3861-F698-49F6-BE05-82FAC7EF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274680"/>
            <a:ext cx="76201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AEB3-8BDA-406F-97B8-A82B78C6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3718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1240" y="1294920"/>
            <a:ext cx="37184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320" y="3818160"/>
            <a:ext cx="3718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66DC-5759-4FA2-BF41-19B764E6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37184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1240" y="1294920"/>
            <a:ext cx="3718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71240" y="3818160"/>
            <a:ext cx="3718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0C84-A582-4477-BC4B-97CDE85E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3718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71240" y="1294920"/>
            <a:ext cx="3718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320" y="3818160"/>
            <a:ext cx="76201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867D-3877-4422-83E6-7E0C3CDE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294920"/>
            <a:ext cx="76201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D687-2B9A-4340-A76C-468132E82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0"/>
            <a:ext cx="0" cy="6858000"/>
          </a:xfrm>
          <a:prstGeom prst="line">
            <a:avLst/>
          </a:prstGeom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AB77-1672-47A2-9225-FE07ACA85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66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80010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Finding your Spring 2005 Class Schedule without interrupting your beauty sleep</a:t>
            </a:r>
            <a:br>
              <a:rPr sz="2800"/>
            </a:b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Hayle Chun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Jessica LeMay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Brendan Lynch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Mac Narahara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Addy Spiller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December 6</a:t>
            </a:r>
            <a:r>
              <a:rPr b="1" lang="en-US" sz="2000" spc="-1" strike="noStrike" baseline="30000">
                <a:solidFill>
                  <a:srgbClr val="660066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, 2004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Model Overview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3733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Inputs (cont’d)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pecialization units remaining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419720" y="1371600"/>
            <a:ext cx="406548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Running the Mod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6201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Based on inputs, each criterion is assigned a value based on how well it meets preferenc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tal course value is sum of criteria valu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057400" y="3429000"/>
                <a:ext cx="54500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4038480"/>
            <a:ext cx="762012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Model Output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6201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output is a schedule that best satisfies all requirement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39760" y="2438280"/>
            <a:ext cx="7925040" cy="1395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371600" y="4191120"/>
            <a:ext cx="7467480" cy="20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-735120" y="-997200"/>
            <a:ext cx="11604960" cy="10148040"/>
            <a:chOff x="-735120" y="-997200"/>
            <a:chExt cx="11604960" cy="10148040"/>
          </a:xfrm>
        </p:grpSpPr>
        <p:sp>
          <p:nvSpPr>
            <p:cNvPr id="140" name=""/>
            <p:cNvSpPr/>
            <p:nvPr/>
          </p:nvSpPr>
          <p:spPr>
            <a:xfrm rot="1294200">
              <a:off x="228600" y="533520"/>
              <a:ext cx="9677520" cy="7086600"/>
            </a:xfrm>
            <a:prstGeom prst="irregularSeal2">
              <a:avLst/>
            </a:prstGeom>
            <a:solidFill>
              <a:srgbClr val="ffffff">
                <a:alpha val="70000"/>
              </a:srgbClr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2666880" y="2438280"/>
              <a:ext cx="4191120" cy="314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Evaluation of Outcome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848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e you satisfied, D. Slacker Juran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Next Steps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6201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put classes taken in previous semesters and add constraint to exclud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clude other NYU cours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mprove normalization of criteria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alysis of expected GPA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alysis of room locations and how much time he has to grab a beer between class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66320" y="1294920"/>
            <a:ext cx="76201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6201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Problem Definiti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Formulation of the Soluti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odel Overview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ample Situati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Next Step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Q&amp;A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Problem Definition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tern is offering 126 courses in Spring 2005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hen a student selects courses, he/she may consider: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2743200"/>
            <a:ext cx="3124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Cours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Professor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Class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Class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274320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Expected 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Module (full/half seme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Number of cred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Specialization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4419720"/>
            <a:ext cx="7620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Arial"/>
              </a:rPr>
              <a:t>OBJECT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 find the optimal class schedule for an MBA2 in the Spring 2005 Semester, given the student’s requirements and prefer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4197240"/>
            <a:ext cx="7543800" cy="0"/>
          </a:xfrm>
          <a:prstGeom prst="line">
            <a:avLst/>
          </a:prstGeom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Formulation of the Solution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6201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ecision Variable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Which courses to take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Which specialization to point courses toward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nstraint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urse load must adhere to credit limit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lasses should meet specialization requirement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lasses must meet at different time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 particular course can only be chosen once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lasses must be selected from list of 126 classes offered in Spring 2005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2762280"/>
            <a:ext cx="7543800" cy="0"/>
          </a:xfrm>
          <a:prstGeom prst="line">
            <a:avLst/>
          </a:prstGeom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In Modeling Terms…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3962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Objective is to maximize: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where: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292720" y="1349280"/>
                <a:ext cx="14479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048120" y="2362320"/>
                <a:ext cx="54496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1219320" y="3146400"/>
            <a:ext cx="7543800" cy="0"/>
          </a:xfrm>
          <a:prstGeom prst="line">
            <a:avLst/>
          </a:prstGeom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47600" y="3048120"/>
            <a:ext cx="48196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 = Value of Course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P = Value of Professor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S = Value of Class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 = Value of Class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G = Value of Expected 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 = Value of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R = Value of Number of Cred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3749760"/>
            <a:ext cx="2971800" cy="2498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660066"/>
                </a:solidFill>
                <a:latin typeface="Arial"/>
              </a:rPr>
              <a:t>Value determined by multiplying the “importance of factor” input by how well the preference is met by the particular cour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Model Overview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848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ata Collection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pring 2005 Course Listings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CFE Reports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7772400" cy="1600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143000" y="4343400"/>
            <a:ext cx="66690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Model Overview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3733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ata Collection (cont’d)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pecializations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75438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ample Student: D. Slacker Juran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429000" y="2514600"/>
            <a:ext cx="2840040" cy="213048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4267080" y="1219320"/>
            <a:ext cx="3124440" cy="1295280"/>
          </a:xfrm>
          <a:prstGeom prst="cloudCallout">
            <a:avLst>
              <a:gd name="adj1" fmla="val -20833"/>
              <a:gd name="adj2" fmla="val 63847"/>
            </a:avLst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No morning classes - I need my beauty slee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16765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048120"/>
            <a:ext cx="3276720" cy="1295280"/>
          </a:xfrm>
          <a:prstGeom prst="cloudCallout">
            <a:avLst>
              <a:gd name="adj1" fmla="val 75046"/>
              <a:gd name="adj2" fmla="val -26717"/>
            </a:avLst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I need as many A’s as I can get to bring up my 2.7 G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1523880"/>
            <a:ext cx="3276720" cy="990720"/>
          </a:xfrm>
          <a:prstGeom prst="cloudCallout">
            <a:avLst>
              <a:gd name="adj1" fmla="val 59254"/>
              <a:gd name="adj2" fmla="val 100481"/>
            </a:avLst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Big classes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No Cold Calli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4952880"/>
            <a:ext cx="3276720" cy="1447920"/>
          </a:xfrm>
          <a:prstGeom prst="cloudCallout">
            <a:avLst>
              <a:gd name="adj1" fmla="val -33333"/>
              <a:gd name="adj2" fmla="val -144958"/>
            </a:avLst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Good courses &amp; good professors – a “nice to hav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4800600"/>
            <a:ext cx="3886200" cy="1523880"/>
          </a:xfrm>
          <a:prstGeom prst="cloudCallout">
            <a:avLst>
              <a:gd name="adj1" fmla="val 51509"/>
              <a:gd name="adj2" fmla="val -135208"/>
            </a:avLst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1.5 more credits towards that Ops Management specializ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3124080"/>
            <a:ext cx="2971800" cy="1295640"/>
          </a:xfrm>
          <a:prstGeom prst="cloudCallout">
            <a:avLst>
              <a:gd name="adj1" fmla="val -71902"/>
              <a:gd name="adj2" fmla="val -44240"/>
            </a:avLst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I need 15 more credits to graduat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Model Overview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3733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Input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Preferences / priorities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Requirements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43000" y="5105520"/>
            <a:ext cx="7467480" cy="1355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114560" y="2232000"/>
            <a:ext cx="761976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16:02:11Z</dcterms:created>
  <dc:creator>Stern School of Business</dc:creator>
  <dc:description/>
  <dc:language>en-US</dc:language>
  <cp:lastModifiedBy>Stern School of Business</cp:lastModifiedBy>
  <dcterms:modified xsi:type="dcterms:W3CDTF">2004-12-05T21:58:32Z</dcterms:modified>
  <cp:revision>2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6232852</vt:r8>
  </property>
  <property fmtid="{D5CDD505-2E9C-101B-9397-08002B2CF9AE}" pid="3" name="_AuthorEmail">
    <vt:lpwstr>jel286@stern.nyu.edu</vt:lpwstr>
  </property>
  <property fmtid="{D5CDD505-2E9C-101B-9397-08002B2CF9AE}" pid="4" name="_AuthorEmailDisplayName">
    <vt:lpwstr>Jessica LeMay</vt:lpwstr>
  </property>
  <property fmtid="{D5CDD505-2E9C-101B-9397-08002B2CF9AE}" pid="5" name="_EmailSubject">
    <vt:lpwstr>Our Files, Take 2</vt:lpwstr>
  </property>
</Properties>
</file>